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01A-088D-4D9D-A27D-E4B41B25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A45-9A47-48F9-9658-E3779C07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AAF-B693-4AD2-A9AD-43265E72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80E-8ABD-4D50-9C9F-A4721DC4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37B-167E-42A8-A78B-6E6440F4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032-222C-4FBD-ACB6-B66FF42C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226-123C-4922-9FC9-863A199F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7CB-707E-4DC6-8F9A-1C55590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9B7-A305-45E5-BD2A-598D3F89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98A-EDCD-4F00-8BAF-DA7D33A5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924-7E71-4A62-9591-0FE130E0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7A8-A9E3-4C45-9EB8-99A0297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BAEC-677C-4493-878D-E9EEBCEDB88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ff"/>
                </a:solidFill>
                <a:latin typeface="Tahoma"/>
              </a:rPr>
              <a:t>LAS M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9144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99"/>
                </a:solidFill>
                <a:latin typeface="Tahoma"/>
              </a:rPr>
              <a:t>INSTRUMENTOS DE VIDA Y DE TRABAJ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45338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8800" y="152280"/>
            <a:ext cx="7315200" cy="68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990000"/>
                </a:solidFill>
                <a:latin typeface="Tahoma"/>
              </a:rPr>
              <a:t>El trabajo es la fuente de toda riquez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990000"/>
                </a:solidFill>
                <a:latin typeface="Tahoma"/>
              </a:rPr>
              <a:t>TRABAJO:</a:t>
            </a:r>
            <a:r>
              <a:rPr b="1" lang="es-CO" sz="3200" spc="-1" strike="noStrike">
                <a:solidFill>
                  <a:srgbClr val="0000cc"/>
                </a:solidFill>
                <a:latin typeface="Tahoma"/>
              </a:rPr>
              <a:t> condición básica y fundamental de toda la vida humana.  Y lo es en tal grado que, hasta cierto punto, debemos decir que el trabajo ha creado al propio hombre.                             </a:t>
            </a:r>
            <a:r>
              <a:rPr b="0" lang="es-CO" sz="2400" spc="-1" strike="noStrike">
                <a:solidFill>
                  <a:srgbClr val="0000cc"/>
                </a:solidFill>
                <a:latin typeface="Times New Roman"/>
              </a:rPr>
              <a:t>Federico En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20574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68580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es-CO" sz="3200" spc="-1" strike="noStrike">
                <a:solidFill>
                  <a:srgbClr val="0000cc"/>
                </a:solidFill>
                <a:latin typeface="Tahoma"/>
              </a:rPr>
              <a:t>El paso decisivo para ser hombre: </a:t>
            </a:r>
            <a:r>
              <a:rPr b="1" lang="es-CO" sz="3200" spc="-1" strike="noStrike">
                <a:solidFill>
                  <a:srgbClr val="d60093"/>
                </a:solidFill>
                <a:latin typeface="Tahoma"/>
              </a:rPr>
              <a:t>La mano era libre...</a:t>
            </a:r>
            <a:r>
              <a:rPr b="0" lang="es-CO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470560"/>
            <a:ext cx="76197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cc"/>
                </a:solidFill>
                <a:latin typeface="Tahoma"/>
              </a:rPr>
              <a:t>El desarrollo de la mano desarrolló el lenguaje, el cerebro, los sentidos y el resto del org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 </a:t>
            </a:r>
            <a:r>
              <a:rPr b="0" lang="es-CO" sz="1800" spc="-1" strike="noStrike">
                <a:solidFill>
                  <a:srgbClr val="0000cc"/>
                </a:solidFill>
                <a:latin typeface="Times New Roman"/>
              </a:rPr>
              <a:t>Federico Eng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1629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6520" y="762120"/>
            <a:ext cx="73152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cc"/>
                </a:solidFill>
                <a:latin typeface="Tahoma"/>
              </a:rPr>
              <a:t>La mano del hombre ha sido perfeccionada por el trabajo durante centenares de miles de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cc"/>
                </a:solidFill>
                <a:latin typeface="Tahoma"/>
              </a:rPr>
              <a:t>                             </a:t>
            </a:r>
            <a:r>
              <a:rPr b="0" lang="es-CO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2768760"/>
            <a:ext cx="61722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685800"/>
            <a:ext cx="6934320" cy="72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          </a:t>
            </a: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...Han sido preci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       </a:t>
            </a: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miles de años para q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el hombre aprendiera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prever las remot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cc"/>
                </a:solidFill>
                <a:latin typeface="Tahoma"/>
              </a:rPr>
              <a:t>consecuencias naturales</a:t>
            </a: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 de sus actos dirigidos a la producción, mucho más le costó aprender a calcular las remotas </a:t>
            </a:r>
            <a:r>
              <a:rPr b="1" lang="es-CO" sz="3200" spc="-1" strike="noStrike">
                <a:solidFill>
                  <a:srgbClr val="0000cc"/>
                </a:solidFill>
                <a:latin typeface="Tahoma"/>
              </a:rPr>
              <a:t>consecuencias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cc"/>
                </a:solidFill>
                <a:latin typeface="Times New Roman"/>
              </a:rPr>
              <a:t>Federico En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69040" y="0"/>
            <a:ext cx="287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0" y="838080"/>
            <a:ext cx="685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cc"/>
                </a:solidFill>
                <a:latin typeface="Tahoma"/>
              </a:rPr>
              <a:t>Con el actual modo de producción se presentan consecuencias sociales diametralmente opuestas a los objetivos de obtener efectos útiles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cc"/>
                </a:solidFill>
                <a:latin typeface="Times New Roman"/>
              </a:rPr>
              <a:t>                              </a:t>
            </a:r>
            <a:r>
              <a:rPr b="0" lang="es-CO" sz="1800" spc="-1" strike="noStrike">
                <a:solidFill>
                  <a:srgbClr val="0000cc"/>
                </a:solidFill>
                <a:latin typeface="Times New Roman"/>
              </a:rPr>
              <a:t>Federico Engels</a:t>
            </a:r>
            <a:r>
              <a:rPr b="0" lang="es-CO" sz="24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5438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411480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cc"/>
                </a:solidFill>
                <a:latin typeface="Tahoma"/>
              </a:rPr>
              <a:t>No es justo que las materias primas salgan ennoblecidas de un proceso productivo, mientras que los hombres salen mutilados y enferm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666880" y="304920"/>
            <a:ext cx="6004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51:55Z</dcterms:created>
  <dc:creator>SURATEP</dc:creator>
  <dc:description/>
  <dc:language>en-US</dc:language>
  <cp:lastModifiedBy>admonpc</cp:lastModifiedBy>
  <dcterms:modified xsi:type="dcterms:W3CDTF">2006-03-28T15:40:27Z</dcterms:modified>
  <cp:revision>53</cp:revision>
  <dc:subject/>
  <dc:title>Sin título de diapositiva</dc:title>
</cp:coreProperties>
</file>