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67640"/>
            <a:ext cx="269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676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67640"/>
            <a:ext cx="8382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71b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" name="TextBox 5"/>
          <p:cNvSpPr/>
          <p:nvPr/>
        </p:nvSpPr>
        <p:spPr>
          <a:xfrm>
            <a:off x="7493040" y="6492960"/>
            <a:ext cx="127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02f78"/>
                </a:solidFill>
                <a:latin typeface="Arial"/>
                <a:ea typeface="ＭＳ Ｐゴシック"/>
              </a:rPr>
              <a:t>ARP SURA</a:t>
            </a:r>
            <a:endParaRPr b="0" lang="en-US" sz="10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71b9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71b9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71b9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1c2f7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b418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66560" y="457200"/>
            <a:ext cx="204804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psura.com.co/riesgos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rpsura.com.co/riesgos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rpsura.com.co/riesgos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rpsura.com.co/riesgos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rpsura.com.co/riesgos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arpsura.com.co/riesgos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arpsura.com.co/riesgos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83707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159084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1c2f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Garantizar la afiliación a la seguridad de seguridad social colombiana en calidad de cotizantes al sistema (EPS y AFP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* Cumplimiento de los requisitos legales de salud ocupacional aplicables a la red de Distribuidores de Operacione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* Identificar los factores de riesgo inherentes a su actividad, a partir de la construcción, validación y mejora continua de las Matrices de peligro construida con los mismos distribuidores y que se encuentran publicadas en </a:t>
            </a:r>
            <a:r>
              <a:rPr b="0" lang="en-US" sz="2400" spc="-1" strike="noStrike" u="sng">
                <a:solidFill>
                  <a:srgbClr val="f37e28"/>
                </a:solidFill>
                <a:uFillTx/>
                <a:latin typeface="Arial"/>
                <a:hlinkClick r:id="rId1"/>
              </a:rPr>
              <a:t>www.arpsura.com.co/riesgos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74920" y="404640"/>
            <a:ext cx="676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ESPONSABILIDADES 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773360"/>
            <a:ext cx="860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* Definir e implementar los controles necesarios para el control de los factores de riesgo que identifique en la matriz de peligros con respecto a los diferentes servicios a prestar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* Seguir las normas y recomendaciones de seguridad al ingresar a empresas afiliadas y durante los desplazamientos en vías publicas y medios de transporte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1c2f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Retroalimentar a la ARP SURA mediante la pagina </a:t>
            </a:r>
            <a:r>
              <a:rPr b="0" lang="es-ES" sz="2400" spc="-1" strike="noStrike" u="sng">
                <a:solidFill>
                  <a:srgbClr val="f37e28"/>
                </a:solidFill>
                <a:uFillTx/>
                <a:latin typeface="Arial"/>
                <a:hlinkClick r:id="rId1"/>
              </a:rPr>
              <a:t>www.arpsura.com.co/riesgos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 sobre factores de riesgo que puedan complementar las matrices de peligro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74920" y="404640"/>
            <a:ext cx="676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ESPONSABILIDADES 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162864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* El distribuidor debe informar a ARP SURA cuando sufra un accidente de trabajo y debe definir las medidas de mejora pertinentes para prevenir accidentes futuros, mediante la página </a:t>
            </a:r>
            <a:r>
              <a:rPr b="0" lang="en-US" sz="2400" spc="-1" strike="noStrike" u="sng">
                <a:solidFill>
                  <a:srgbClr val="f37e28"/>
                </a:solidFill>
                <a:uFillTx/>
                <a:latin typeface="Arial"/>
                <a:hlinkClick r:id="rId1"/>
              </a:rPr>
              <a:t>www.arpsura.com.co/riesgos</a:t>
            </a:r>
            <a:r>
              <a:rPr b="0" lang="en-US" sz="2400" spc="-1" strike="noStrike" u="sng">
                <a:solidFill>
                  <a:srgbClr val="1c2f79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* Indagar con los contactos de las empresas afiliadas que visita los procedimientos en caso de emergencias, rutas de evacuación, sonidos de alarma y punto de encuentro.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4920" y="404640"/>
            <a:ext cx="676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ESPONSABILIDADES 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56000" y="476280"/>
            <a:ext cx="6119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OBJETIVOS Y META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63640" y="198900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c2f79"/>
                </a:solidFill>
                <a:latin typeface="Arial"/>
              </a:rPr>
              <a:t>Objetivo: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Influenciar a los Distribuidores de Operaciones en la gestión de los riesgos ocupacionale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c2f79"/>
                </a:solidFill>
                <a:latin typeface="Arial"/>
              </a:rPr>
              <a:t>Meta: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Influenciar en Buenas Prácticas de Salud Ocupacional a los Distribuidores Operaciones a Diciembre de 2009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627280" y="404640"/>
            <a:ext cx="619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MATRIZ DE PELIGRO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4560" y="228600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La Matriz de Peligros de los distribuidores de Operaciones se encuentra publicada en el sitio web </a:t>
            </a:r>
            <a:r>
              <a:rPr b="0" lang="es-ES" sz="2400" spc="-1" strike="noStrike" u="sng">
                <a:solidFill>
                  <a:srgbClr val="f37e28"/>
                </a:solidFill>
                <a:uFillTx/>
                <a:latin typeface="Arial"/>
                <a:hlinkClick r:id="rId1"/>
              </a:rPr>
              <a:t>www.arpsura.com.co/riesgos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.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esta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 matriz contiene los principales factores de riesgo a los que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se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 puede ver expuesto en las actividades de asesoría en las empresa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74560" y="210492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Cada asesor debe conocer los factores de riesgo a los que se expone en su trabajo y de forma permanente revisar como los cambios en procesos y actividades puede generar nuevos factores de riesgo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Es importante además de identificarlos implementar medidas de control.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27280" y="404640"/>
            <a:ext cx="619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MATRIZ DE PELIGRO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74560" y="175248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Los riesgos mas representativos identificados para los distribuidores de </a:t>
            </a:r>
            <a:r>
              <a:rPr b="0" lang="es-CO" sz="2400" spc="-1" strike="noStrike">
                <a:solidFill>
                  <a:srgbClr val="2d4dc3"/>
                </a:solidFill>
                <a:latin typeface="Arial"/>
              </a:rPr>
              <a:t>Operaciones son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Tránsito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aídas a nivel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Público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27280" y="404640"/>
            <a:ext cx="619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MATRIZ DE PELIGRO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43280" y="404640"/>
            <a:ext cx="608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NORMAS GENERALES 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557360"/>
            <a:ext cx="82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umpla todas las normas de seguridad básicas y generales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onsulte las normas de seguridad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al ingresar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 a la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s empresas y a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tienda todas la sugerencias de seguridad que le hagan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Desplácese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por la empresa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 en compañía de alguien de la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misma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Respete la demarcación y siga las rutas de circulación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Esté atento al estado de pisos y parede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09680" y="281952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>
                <a:solidFill>
                  <a:srgbClr val="000099"/>
                </a:solidFill>
                <a:latin typeface="Verdana"/>
              </a:rPr>
              <a:t>TRÁNSITO</a:t>
            </a:r>
            <a:endParaRPr b="0" lang="en-US" sz="60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9640" y="256536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Conducir un vehículo es una actividad de riesgo con máximo grado de responsabilidad.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Respeta las normas y antepón el sentido común para evitar accidente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52960" y="404640"/>
            <a:ext cx="5891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TRÁNSITO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2133720"/>
            <a:ext cx="61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Propiciar óptimos servicios de acuerdo con las necesidades del cliente y minimizar los </a:t>
            </a:r>
            <a:r>
              <a:rPr b="1" lang="en-US" sz="2400" spc="-1" strike="noStrike">
                <a:solidFill>
                  <a:srgbClr val="1c2f79"/>
                </a:solidFill>
                <a:latin typeface="Arial"/>
              </a:rPr>
              <a:t>factores de riesgo ocupacionales críticos</a:t>
            </a: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 que afecten a los empleados y partes</a:t>
            </a:r>
            <a:r>
              <a:rPr b="1" lang="en-US" sz="2400" spc="-1" strike="noStrike">
                <a:solidFill>
                  <a:srgbClr val="1c2f79"/>
                </a:solidFill>
                <a:latin typeface="Arial"/>
              </a:rPr>
              <a:t> interesadas</a:t>
            </a: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 para mantener y mejorar </a:t>
            </a:r>
            <a:r>
              <a:rPr b="1" lang="en-US" sz="2400" spc="-1" strike="noStrike">
                <a:solidFill>
                  <a:srgbClr val="1c2f79"/>
                </a:solidFill>
                <a:latin typeface="Arial"/>
              </a:rPr>
              <a:t>ambientes de trabajo sanos y seguros</a:t>
            </a: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, enmarcados en el cumplimiento de la legislación y el mejoramiento continuo.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83560" y="2522520"/>
            <a:ext cx="1936440" cy="2490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9280" y="404640"/>
            <a:ext cx="662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POLÍTICA DEL SISTEMA DE GESTIÓN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5027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Utilice el cinturón de seguridad. Verifique que su acompañante también lo haga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29040" y="2425680"/>
            <a:ext cx="3085920" cy="2298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00" y="16286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Algunas recomendaciones para tener en cuenta…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2960" y="404640"/>
            <a:ext cx="5891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TRÁNSITO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1916280"/>
            <a:ext cx="822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Deténganse y mire ambos lados cuando encuentre una señal de pare o semáforo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Respete la cebra, los pasos peatonales y el peatón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Encienda las luces desde las 6:00 p.m. hasta las 6:00 a.m.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En vías nacionales enciéndalas permanentemente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52960" y="404640"/>
            <a:ext cx="5891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TRÁNSITO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33720" y="1693800"/>
            <a:ext cx="4952880" cy="2095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42480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Conserve una distancia prudencial con respecto a los otros vehículo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Anuncie la maniobra de adelantamiento o giro con direccionale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52960" y="404640"/>
            <a:ext cx="5891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TRÁNSITO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17874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Adelante sólo en sitios permitidos por la izquierda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Respete a otros vehículos y a sus conductore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756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Estaciónese en un lugar seguro para hablar por celular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Reduzca la velocidad en zonas escolares y residenciale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124080" y="3622680"/>
            <a:ext cx="2648160" cy="965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52960" y="404640"/>
            <a:ext cx="5891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TRÁNSITO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1967040" cy="2133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95480" y="280656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2f79"/>
                </a:solidFill>
                <a:latin typeface="Arial"/>
              </a:rPr>
              <a:t>Estacione bien el vehículo cuando realice alguna diligencia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52960" y="404640"/>
            <a:ext cx="5891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TRÁNSITO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391520" y="4572000"/>
            <a:ext cx="17524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3436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52960" y="404640"/>
            <a:ext cx="5891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TRÁNSITO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56000" y="404640"/>
            <a:ext cx="62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PARA LOS PEATONE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1240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Transite por las zonas demarcadas o cebras peatonale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Utilice los puentes peatonales, cuando estos existan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c2f79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1c2f79"/>
                </a:solidFill>
                <a:latin typeface="Arial"/>
              </a:rPr>
              <a:t>PRINCIPIO GENERAL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354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34936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No atraviese la calzada en forma diagonal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ruce la calzada rápido pero sin correr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No cruce por detrás de un vehículo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estacionado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404640"/>
            <a:ext cx="62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PARA LOS PEATONE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2205000"/>
            <a:ext cx="7656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Mire a la izquierda y derecha antes de cruzar la calzada, para comprobar que no vienen vehículo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No invada la zona destinada al tránsito de vehículos, no transite en ésta en patines, monopatines, patinetas o similare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404640"/>
            <a:ext cx="62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PARA LOS PEATONE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05280" y="1917720"/>
            <a:ext cx="3132000" cy="2016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1680" y="4724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ruce la calzada por la cebra peatonal, cuando la luz del semáforo esté en rojo para los vehículos, es decir cuando éstos se detengan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404640"/>
            <a:ext cx="62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PARA LOS PEATONE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44680" y="1851120"/>
            <a:ext cx="8059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c2f79"/>
                </a:solidFill>
                <a:latin typeface="Arial"/>
              </a:rPr>
              <a:t>¿Cómo se comprometen los distribuidores con el cumplimiento de la política?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Minimizar los factores de riesgo ocupacionales: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onociendo los factores de riesgo inherentes a su actividad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Siguiendo las normas y recomendaciones de seguridad al ingresar a empresas afiliadas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9280" y="404640"/>
            <a:ext cx="662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POLÍTICA DEL SISTEMA DE GESTIÓN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33240" y="2349360"/>
            <a:ext cx="85107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240" y="836640"/>
            <a:ext cx="85107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0383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Desplácese por la derecha, al caminar por la acera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No transite por el borde de la acera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Esté atento a las salidas de garaje, entradas de parqueaderos y estaciones de servicio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404640"/>
            <a:ext cx="62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PARA LOS PEATONE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09680" y="281952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>
                <a:solidFill>
                  <a:srgbClr val="000099"/>
                </a:solidFill>
                <a:latin typeface="Verdana"/>
              </a:rPr>
              <a:t>CAÍDAS A NIVEL</a:t>
            </a:r>
            <a:endParaRPr b="0" lang="en-US" sz="60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2133720"/>
            <a:ext cx="528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Mantener los pasillos entre escritorios y puestos de trabajo libres de cajas,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papeleras, cables, etc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errar los cajones de los archivadores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33336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Algunas recomendaciones para tener 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en cuenta…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3228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21430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Mantenga el escritorio ordenado para evitar la caída de objetos a las zonas de paso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No almacene carpetas, cajas u otros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objetos de forma inestable sobre armario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3336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Algunas recomendaciones para tener 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en cuenta…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733920" y="146052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1430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a6a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844640"/>
            <a:ext cx="53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amine sin prisa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No intente correr, saltar o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deslizarse a través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de las superficies lisas.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Realice pasos cortos con los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dedos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apuntando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ligeramente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hacia el exterior.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848200" y="2637000"/>
            <a:ext cx="3295800" cy="3143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90920" y="33336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Algunas recomendaciones para tener 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en cuenta…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33920" y="146052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231444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Mire por donde transita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oncéntrese al caminar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443640" y="3000240"/>
            <a:ext cx="2266920" cy="3857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90920" y="33336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Algunas recomendaciones para tener 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en cuenta…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733920" y="146052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773360"/>
            <a:ext cx="853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Al cruzar la vía espere que cambie el semáforo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peatonal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Al cruzar la vía mire para ambos lados,  antes de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hacerlo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amine siempre por los andenes y no por la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alzada vial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Evite caminar por pisos húmedos, huecos,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rejillas en el piso y edificios en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onstrucción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3336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Algunas recomendaciones para tener 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en cuenta…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41280" y="3382920"/>
            <a:ext cx="855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amine sin prisa, evite correr al subir o bajar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escalone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Ascienda o descienda peldaño por peldaño y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siempre por la derecha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989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Desplácese en lo posible con una de las manos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libres y si tiene que llevar alguna carga, llévela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de modo que no bloquee su visión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33336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Algunas recomendaciones para tener 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en cuenta…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85308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38480" y="24382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Utilice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siempre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el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pasamano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476280"/>
            <a:ext cx="374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CAIDAS A NIVEL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09680" y="281952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>
                <a:solidFill>
                  <a:srgbClr val="000099"/>
                </a:solidFill>
                <a:latin typeface="Verdana"/>
              </a:rPr>
              <a:t>RIESGO PÚBLICO</a:t>
            </a:r>
            <a:endParaRPr b="0" lang="en-US" sz="60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547640"/>
            <a:ext cx="813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Mantener y mejorar ambientes de trabajo sanos y seguros: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Conocer los factores de riesgo a los que están expuestos en la labor diaria y como controlarlos.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Cumplimiento de la legislación y el mejoramiento continuo:</a:t>
            </a:r>
            <a:br>
              <a:rPr sz="2400"/>
            </a:b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Garantizar la afiliación a la seguridad de seguridad social colombiana como cotizante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Retroalimentar a la ARP SURA mediante la pagina </a:t>
            </a:r>
            <a:r>
              <a:rPr b="0" lang="en-US" sz="2400" spc="-1" strike="noStrike" u="sng">
                <a:solidFill>
                  <a:srgbClr val="f37e28"/>
                </a:solidFill>
                <a:uFillTx/>
                <a:latin typeface="Arial"/>
                <a:hlinkClick r:id="rId1"/>
              </a:rPr>
              <a:t>www.arpsura.com.co/riesgos</a:t>
            </a:r>
            <a:r>
              <a:rPr b="0" lang="en-US" sz="2400" spc="-1" strike="noStrike" u="sng">
                <a:solidFill>
                  <a:srgbClr val="1c2f79"/>
                </a:solidFill>
                <a:uFillTx/>
                <a:latin typeface="Arial"/>
              </a:rPr>
              <a:t> sobre los peligros y riesgos que puedan complementar las matrices de peligros.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9280" y="404640"/>
            <a:ext cx="662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POLÍTICA DEL SISTEMA DE GESTIÓN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280" y="1989000"/>
            <a:ext cx="507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Conserve la calma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Pida calma al delincuente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Haga que él se sienta con el control de la situación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260280"/>
            <a:ext cx="485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DURANTE UNA SITUACIÓN DE RIESGO PÚBLICO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651640" y="1773360"/>
          <a:ext cx="3143160" cy="23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73360"/>
                    <a:ext cx="314316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81080" y="4724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Nunca resista, entregue objetos que le fueran pedido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Contra un arma de fuego,  no existe fuerza física suficiente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5040" y="1600200"/>
            <a:ext cx="824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Nunca cree situaciones que hagan al delincuente sentir que está perdiendo el control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Nunca responda a las agresiones físicas contra usted o contra sus acompañante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Recuerde: El objeto principal es sobrevivir al asalto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El ladrón drogado o bebido tiene reflejos alterados, siendo así; haga todo con mucha calma y con movimientos suaves informando sus movimiento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260280"/>
            <a:ext cx="485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DURANTE UNA SITUACIÓN DE RIESGO PÚBLICO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211640" y="404640"/>
            <a:ext cx="450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AUTOCUIDADO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300560" cy="4008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42920" y="409896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Manténgase al día con sus obligaciones a la seguridad social, esto le permite estar protegido ante cualquier evento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Valide con el cliente antes de iniciar el servicio la ruta de evacuación y los procedimientos en caso de emergencia.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1881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Tener un comportamiento seguro durante la visita a las empresas afiliadas: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447920" y="3276720"/>
          <a:ext cx="5905440" cy="28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276720"/>
                    <a:ext cx="590544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33520" y="1447920"/>
            <a:ext cx="828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Cumpla con las normas de seguridad de la empresa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Al finalizar el servicio valide los aspectos en el reporte de asistencia directa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724280"/>
            <a:ext cx="693396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11640" y="404640"/>
            <a:ext cx="450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AUTOCUIDADO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9640" y="2209680"/>
            <a:ext cx="426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El plan de emergencia es un proceso que nos permite anticiparnos, responder y recuperarnos ante una emergencia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,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 disminuyendo la perdida potencial de vidas e infraestructura y minimizando así el impacto del evento sobre la compañía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32000" y="404640"/>
            <a:ext cx="550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PLAN DE EMERGENCIA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56160" y="2009880"/>
            <a:ext cx="30765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Al llegar a la empresa es importante: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Validar la existencia de un plan de emergencias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y conocer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ómo actuar en caso 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de presentarse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Indagar al contacto cu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á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les son las amenazas potenciales que puedan desencadenar una emergencia, los procedimientos de emergencia existentes, identificar las rutas de evacuación, salidas de emergencia y puntos de encuentro, igualmente debe tener presente indagar sobre los teléfonos de emergencia y los sonidos de alarma.</a:t>
            </a:r>
            <a:endParaRPr b="0" lang="en-US" sz="24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404640"/>
            <a:ext cx="550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PLAN DE EMERGENCIA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2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En caso de una emergencia:</a:t>
            </a:r>
            <a:endParaRPr b="0" lang="en-US" sz="2400" spc="-1" strike="noStrike">
              <a:solidFill>
                <a:srgbClr val="1b418b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Evacue </a:t>
            </a: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con el personal de la empresa</a:t>
            </a:r>
            <a:endParaRPr b="0" lang="en-US" sz="2400" spc="-1" strike="noStrike">
              <a:solidFill>
                <a:srgbClr val="1b418b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Utilice las rutas de evacuación establecidas </a:t>
            </a:r>
            <a:endParaRPr b="0" lang="en-US" sz="24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404640"/>
            <a:ext cx="550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PLAN DE EMERGENCIA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422100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  <a:ea typeface="ＭＳ Ｐゴシック"/>
              </a:rPr>
              <a:t> </a:t>
            </a:r>
            <a:r>
              <a:rPr b="1" lang="es-CO" sz="2400" spc="-1" strike="noStrike">
                <a:solidFill>
                  <a:srgbClr val="1c2f79"/>
                </a:solidFill>
                <a:latin typeface="Arial"/>
                <a:ea typeface="ＭＳ Ｐゴシック"/>
              </a:rPr>
              <a:t>Contáctenos en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 u="sng">
                <a:solidFill>
                  <a:srgbClr val="f37e28"/>
                </a:solidFill>
                <a:uFillTx/>
                <a:latin typeface="Arial"/>
                <a:ea typeface="ＭＳ Ｐゴシック"/>
                <a:hlinkClick r:id="rId1"/>
              </a:rPr>
              <a:t>www.arpsura.com.co/riesgos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434880"/>
            <a:ext cx="738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COMUNICACIÓN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11280" y="5300640"/>
            <a:ext cx="3657600" cy="601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9640" y="16286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  <a:ea typeface="ＭＳ Ｐゴシック"/>
              </a:rPr>
              <a:t>En ARP SURA hemos dispuesto para ustedes canales de comunicación que nos permite estar en contacto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43657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  <a:ea typeface="ＭＳ Ｐゴシック"/>
              </a:rPr>
              <a:t>Boletín del Distribuidor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0960" y="2997360"/>
            <a:ext cx="853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c2f79"/>
                </a:solidFill>
                <a:latin typeface="Arial"/>
                <a:ea typeface="ＭＳ Ｐゴシック"/>
              </a:rPr>
              <a:t>Infórmanos todos los incidentes ingresando a </a:t>
            </a:r>
            <a:r>
              <a:rPr b="1" lang="es-CO" sz="2400" spc="-1" strike="noStrike" u="sng">
                <a:solidFill>
                  <a:srgbClr val="f37e28"/>
                </a:solidFill>
                <a:uFillTx/>
                <a:latin typeface="Arial"/>
                <a:ea typeface="ＭＳ Ｐゴシック"/>
                <a:hlinkClick r:id="rId3"/>
              </a:rPr>
              <a:t>www.arpsura.com.co/riesgos</a:t>
            </a: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71640" y="101520"/>
            <a:ext cx="73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434880"/>
            <a:ext cx="720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SEGURIDAD Y SALUD OCUPACIONAL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9051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c2f79"/>
                </a:solidFill>
                <a:latin typeface="Arial"/>
              </a:rPr>
              <a:t>Gracias al compromiso de todos logramos la certificación del Sistema de Gestión en Seguridad y Salud Ocupacional bajo la norma NTC OHSAS 18.001 versión 2007. 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Debemos continuar afianzando la cultura de la Seguridad en la prestación de nuestros servicios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57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f79"/>
                </a:solidFill>
                <a:latin typeface="Arial"/>
              </a:rPr>
              <a:t>El auto cuidado nuestra norma de seguridad y salud ocupacional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71640" y="101520"/>
            <a:ext cx="73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404640"/>
            <a:ext cx="548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2549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56000" y="414972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Evento relacionado con el trabajo en el cual ocurrió o pudo ocurrir una lesión, enfermedad o muerte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4048200" cy="317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76720" y="3860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Un accidente es un incidente en el cual hubo lesión, enfermedad o muerte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404640"/>
            <a:ext cx="548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340160" cy="361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71640" y="314172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Un incidente en el que no ocurre lesión, daño a la salud, enfermedad o muerte se conoce también como casi-accidente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4941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c2f79"/>
                </a:solidFill>
                <a:latin typeface="Arial"/>
              </a:rPr>
              <a:t>Una situación de emergencia es un tipo particular de incidente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404640"/>
            <a:ext cx="548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374920" y="404640"/>
            <a:ext cx="676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ESPONSABILIDADES </a:t>
            </a:r>
            <a:endParaRPr b="0" lang="en-US" sz="2500" spc="-1" strike="noStrike">
              <a:solidFill>
                <a:srgbClr val="1c2f7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92240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Todos somos responsable de prevenir nuestros factores de riesgo y convertir nuestros ambientes laborales en sitios sanos y seguros. Por tal motivo te invitamos a conocer tus responsabilidades como distribuidor.</a:t>
            </a: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1c2f79"/>
                </a:solidFill>
                <a:latin typeface="Arial"/>
              </a:rPr>
              <a:t>* Conocer la política, objetivos y metas del sistema de gestión de seguridad y salud ocupacional de ARP SURA y participar activamente de su implementación y cumplimient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1c2f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2:09:46Z</dcterms:created>
  <dc:creator>mpquintero</dc:creator>
  <dc:description/>
  <dc:language>en-US</dc:language>
  <cp:lastModifiedBy>susalud</cp:lastModifiedBy>
  <dcterms:modified xsi:type="dcterms:W3CDTF">2009-08-25T12:56:03Z</dcterms:modified>
  <cp:revision>57</cp:revision>
  <dc:subject/>
  <dc:title>Diapositiva 1</dc:title>
</cp:coreProperties>
</file>