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4903920" y="5557680"/>
            <a:ext cx="3782880" cy="843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3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4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5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6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7"/>
          </p:nvPr>
        </p:nvSpPr>
        <p:spPr>
          <a:xfrm>
            <a:off x="380880" y="649296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8"/>
          </p:nvPr>
        </p:nvSpPr>
        <p:spPr>
          <a:xfrm>
            <a:off x="380880" y="6492960"/>
            <a:ext cx="711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202f78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02f78"/>
                </a:solidFill>
                <a:latin typeface="Times New Roman"/>
                <a:ea typeface="Arial"/>
              </a:rPr>
              <a:t>Título de la presentación - 00 de mes de 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7760" y="2130120"/>
            <a:ext cx="83818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 Bold"/>
              </a:rPr>
              <a:t>SEGURIDAD Y SALUD OCUPACIONAL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14400" y="2614680"/>
            <a:ext cx="6886440" cy="1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Mire por donde transita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Concéntrese al caminar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781680" y="1554120"/>
            <a:ext cx="2156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46052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1557360"/>
            <a:ext cx="83059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Prefiera zapatos con suela antideslizante, </a:t>
            </a: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tacón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 bajo, faldas amplias y no muy larga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Recoja las correas sueltas de los bolsos y </a:t>
            </a: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maletine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En las calles, haga uso de las cebras, puentes </a:t>
            </a: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peatonales o lugares demarcados para </a:t>
            </a: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cruzarla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733920" y="146052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1471680"/>
            <a:ext cx="853416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Al cruzar la vía espere que cambie el semáforo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peatonal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Al cruzar la vía mire para ambos lados,  antes de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hacerlo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Camine siempre por los andenes y no por la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calzada vial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4753080"/>
            <a:ext cx="8382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Evite caminar por pisos húmedos, huecos,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rejillas en el piso y edificios en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construcción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28600" y="3048120"/>
            <a:ext cx="88390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Camine sin prisa, evite correr al subir o bajar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escalone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Ascienda o descienda peldaño por peldaño y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siempre por la derecha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1676520"/>
            <a:ext cx="8229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Desplácese en lo posible con una de las manos libres y si tiene que llevar alguna carga, llévela de modo que no bloquee su visión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85308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038480" y="2438280"/>
            <a:ext cx="487692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Utilice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siempre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el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 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pasamano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24000" y="244476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>
                <a:solidFill>
                  <a:srgbClr val="000099"/>
                </a:solidFill>
                <a:latin typeface="Verdana"/>
              </a:rPr>
              <a:t>CAÍDAS A NIVEL</a:t>
            </a:r>
            <a:endParaRPr b="0" lang="en-US" sz="60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115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Verdana"/>
              </a:rPr>
              <a:t>¿Cuáles son los </a:t>
            </a:r>
            <a:r>
              <a:rPr b="1" lang="es-CO" sz="4000" spc="-1" strike="noStrike" u="sng">
                <a:solidFill>
                  <a:srgbClr val="ffffff"/>
                </a:solidFill>
                <a:uFillTx/>
                <a:latin typeface="Verdana"/>
              </a:rPr>
              <a:t>factores de riesgo</a:t>
            </a:r>
            <a:r>
              <a:rPr b="1" lang="es-CO" sz="4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2492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333399"/>
                </a:solidFill>
                <a:latin typeface="Verdana"/>
              </a:rPr>
              <a:t>Son todas las condiciones del piso, escalas, superficies de desplazamiento, calzado, entre otros, que pueden propiciar la caída de una persona. 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30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Verdana"/>
              </a:rPr>
              <a:t>¿Cuáles son los </a:t>
            </a:r>
            <a:r>
              <a:rPr b="1" lang="es-CO" sz="4000" spc="-1" strike="noStrike" u="sng">
                <a:solidFill>
                  <a:srgbClr val="ffffff"/>
                </a:solidFill>
                <a:uFillTx/>
                <a:latin typeface="Verdana"/>
              </a:rPr>
              <a:t>factores de riesgo</a:t>
            </a:r>
            <a:r>
              <a:rPr b="1" lang="es-CO" sz="4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2708280"/>
            <a:ext cx="8136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333399"/>
                </a:solidFill>
                <a:latin typeface="Verdana"/>
              </a:rPr>
              <a:t>Estos factores de riesgo están presentes en las vías públicas y en las instalaciones de las empresas afiliadas.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16040" y="1971720"/>
            <a:ext cx="7710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El factor de riesgo puede manifestarse: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Ocasionando caídas en una superficie o escala.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Generando golpes, heridas, luxaciones y   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esguinces.  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1992240"/>
            <a:ext cx="8001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700" spc="-1" strike="noStrike" u="sng">
                <a:solidFill>
                  <a:srgbClr val="000099"/>
                </a:solidFill>
                <a:uFillTx/>
                <a:latin typeface="Verdana"/>
              </a:rPr>
              <a:t>Autocuidado</a:t>
            </a: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 :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Hay comportamientos que pueden ocasionar caídas a nivel.  Como por ejemplo, correr, subir y bajar escaleras sin hacer uso del pasamanos.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8360" y="4299120"/>
            <a:ext cx="72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91520" y="404640"/>
            <a:ext cx="51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"/>
              </a:rPr>
              <a:t>¿Cómo  controlarlo?</a:t>
            </a:r>
            <a:endParaRPr b="0" lang="en-US" sz="40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1628640"/>
            <a:ext cx="798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700" spc="-1" strike="noStrike" u="sng">
                <a:solidFill>
                  <a:srgbClr val="000099"/>
                </a:solidFill>
                <a:uFillTx/>
                <a:latin typeface="Verdana"/>
              </a:rPr>
              <a:t>Autocuidado</a:t>
            </a: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514600"/>
            <a:ext cx="7496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99"/>
                </a:solidFill>
                <a:latin typeface="Verdana"/>
              </a:rPr>
              <a:t>Cuando estés en vías públicas o visitando alguna empresa, es necesario estar atento a las condiciones del piso y tomar las debidas precauciones.</a:t>
            </a: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83600" y="404640"/>
            <a:ext cx="51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"/>
              </a:rPr>
              <a:t>¿Cómo  controlarlo?</a:t>
            </a:r>
            <a:endParaRPr b="0" lang="en-US" sz="40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800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Algunas recomendaciones para tener en cuenta…</a:t>
            </a:r>
            <a:endParaRPr b="0" lang="en-US" sz="3600" spc="-1" strike="noStrike">
              <a:solidFill>
                <a:srgbClr val="1c2f7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0280" y="2590920"/>
            <a:ext cx="754380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Mantener el escritorio ordenado para 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evitar la caída de objetos a las zonas de 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paso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No almacenar carpetas, cajas u otros 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objetos de forma inestable sobre armario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42800" y="2492280"/>
            <a:ext cx="8305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Camine sin prisa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No intente correr, saltar o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deslizarse a través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de las superficies lisas.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2f79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33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Realice pasos cortos con los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dedos 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apuntando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ligeramente</a:t>
            </a:r>
            <a:r>
              <a:rPr b="0" lang="es-CO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Verdana"/>
              </a:rPr>
              <a:t>hacia el exterior. </a:t>
            </a:r>
            <a:endParaRPr b="0" lang="en-US" sz="2800" spc="-1" strike="noStrike">
              <a:solidFill>
                <a:srgbClr val="1c2f79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5334120" y="1444680"/>
            <a:ext cx="30477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2:16:33Z</dcterms:created>
  <dc:creator>mpquintero</dc:creator>
  <dc:description/>
  <dc:language>en-US</dc:language>
  <cp:lastModifiedBy>mpquintero</cp:lastModifiedBy>
  <dcterms:modified xsi:type="dcterms:W3CDTF">2009-09-10T12:20:36Z</dcterms:modified>
  <cp:revision>1</cp:revision>
  <dc:subject/>
  <dc:title>SEGURIDAD Y SALUD OCUPACIONAL</dc:title>
</cp:coreProperties>
</file>