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380880" y="649296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9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4903920" y="5557680"/>
            <a:ext cx="3782880" cy="843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3"/>
          </p:nvPr>
        </p:nvSpPr>
        <p:spPr>
          <a:xfrm>
            <a:off x="380880" y="649296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0"/>
            <a:ext cx="9144000" cy="110484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4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0"/>
            <a:ext cx="9144000" cy="110484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5"/>
          </p:nvPr>
        </p:nvSpPr>
        <p:spPr>
          <a:xfrm>
            <a:off x="380880" y="649296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6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7"/>
          </p:nvPr>
        </p:nvSpPr>
        <p:spPr>
          <a:xfrm>
            <a:off x="380880" y="649296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8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9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6276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5400" spc="-1" strike="noStrike">
                <a:solidFill>
                  <a:srgbClr val="ffffff"/>
                </a:solidFill>
                <a:latin typeface="Arial Bold"/>
              </a:rPr>
              <a:t>ELEMENTOS DE PROTECCIÓN PERSONAL</a:t>
            </a:r>
            <a:endParaRPr b="0" lang="en-US" sz="54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36480" y="1752480"/>
            <a:ext cx="782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Verdana"/>
              </a:rPr>
              <a:t>Para controlar los factores de riesgo presentes en las empresas afiliadas a Suratep es necesario utilizar los elementos de protección personal de acuerdo con los factores de riesgo existentes en la empresa o área a visitar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Verdana"/>
              </a:rPr>
              <a:t>A continuación les informamos algunos procedimientos que se deben seguir antes de visitar una empresa: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668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85800" y="1371600"/>
            <a:ext cx="782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olicite información de los </a:t>
            </a:r>
            <a:r>
              <a:rPr b="0" lang="es-CO" sz="2800" spc="-1" strike="noStrike">
                <a:solidFill>
                  <a:srgbClr val="333399"/>
                </a:solidFill>
                <a:latin typeface="Verdana"/>
              </a:rPr>
              <a:t>factores de riesgo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existentes en las instalaciones de la empresa que va a visitar y los equipos de protección personal requeridos para ingresar a la planta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4191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eleccione el equipo definido para cada </a:t>
            </a:r>
            <a:r>
              <a:rPr b="0" lang="es-CO" sz="2800" spc="-1" strike="noStrike">
                <a:solidFill>
                  <a:srgbClr val="333399"/>
                </a:solidFill>
                <a:latin typeface="Verdana"/>
              </a:rPr>
              <a:t>factor de riesgo y tengalo disponible para su visita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52280" y="1600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asco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: Para prevenir caídas de objetos desde alturas.</a:t>
            </a:r>
            <a:endParaRPr b="0" lang="en-US" sz="32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29" name="DSC03618" descr=""/>
          <p:cNvPicPr/>
          <p:nvPr/>
        </p:nvPicPr>
        <p:blipFill>
          <a:blip r:embed="rId1"/>
          <a:srcRect l="2953" t="0" r="0" b="0"/>
          <a:stretch/>
        </p:blipFill>
        <p:spPr>
          <a:xfrm>
            <a:off x="6400800" y="1295280"/>
            <a:ext cx="2390760" cy="19335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90440" y="348768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Revise periódicamente la suspensión de su casco. Examínelo para verificar si tiene cintas desgastadas, remaches sueltos, costuras deshechas u otros defectos. Reemplace su casco después de un impacto severo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52280" y="13716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Gafas de seguridad: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Para proteger contra proyección de partículas o líquidos.</a:t>
            </a:r>
            <a:endParaRPr b="0" lang="en-US" sz="32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>
            <a:lum bright="10000"/>
          </a:blip>
          <a:srcRect l="11222" t="24965" r="3780" b="28351"/>
          <a:stretch/>
        </p:blipFill>
        <p:spPr>
          <a:xfrm>
            <a:off x="6019920" y="1600200"/>
            <a:ext cx="2904840" cy="1314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433" name=""/>
          <p:cNvSpPr/>
          <p:nvPr/>
        </p:nvSpPr>
        <p:spPr>
          <a:xfrm>
            <a:off x="228600" y="38862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Deben ser limpiadas con un paño húmedo antes de comenzar la jornada. Si están sucias o rayadas limitan su visión y pueden ocasionarle un accidente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28600" y="1676520"/>
            <a:ext cx="61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Protección auditiva</a:t>
            </a:r>
            <a:r>
              <a:rPr b="1" lang="es-CO" sz="32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para Ruido superior a 80 Db</a:t>
            </a:r>
            <a:endParaRPr b="0" lang="en-US" sz="32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35" name="DSC0361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095880" y="1295280"/>
            <a:ext cx="2514600" cy="1962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04920" y="359424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Lávelos con agua tibia y jabón suave antes de colocárselos. Las manos deben estar muy limpias al momento de insertárselos. Cuando no los vaya a utilizar, guárdelos secos en un estuche. Deben reemplazarse si se quiebran, rajan o se deforman parcialmente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28600" y="152388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Respirador para polvos o químicos: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Para proteger irritaciones respiratorias</a:t>
            </a:r>
            <a:endParaRPr b="0" lang="en-US" sz="32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086600" y="2023920"/>
            <a:ext cx="1905120" cy="1405080"/>
          </a:xfrm>
          <a:prstGeom prst="rect">
            <a:avLst/>
          </a:prstGeom>
          <a:ln w="0">
            <a:noFill/>
          </a:ln>
        </p:spPr>
      </p:pic>
      <p:pic>
        <p:nvPicPr>
          <p:cNvPr id="439" name="DSC03613" descr=""/>
          <p:cNvPicPr/>
          <p:nvPr/>
        </p:nvPicPr>
        <p:blipFill>
          <a:blip r:embed="rId2">
            <a:lum bright="12000"/>
          </a:blip>
          <a:srcRect l="5906" t="0" r="0" b="0"/>
          <a:stretch/>
        </p:blipFill>
        <p:spPr>
          <a:xfrm>
            <a:off x="6172200" y="838080"/>
            <a:ext cx="1600200" cy="12733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04920" y="38862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no utilice su respirador, guárdelo en una bolsa plástica bien cerrada de lo contrario se saturará con la contaminación dispersa en el ambiente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0880" y="1295280"/>
            <a:ext cx="60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alzado de seguridad</a:t>
            </a:r>
            <a:r>
              <a:rPr b="1" lang="es-CO" sz="32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según el tipo de riesgo (metalmecánica, </a:t>
            </a:r>
            <a:r>
              <a:rPr b="0" lang="es-CO" sz="3200" spc="-1" strike="noStrike">
                <a:solidFill>
                  <a:srgbClr val="333399"/>
                </a:solidFill>
                <a:latin typeface="Verdana"/>
              </a:rPr>
              <a:t>construcción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, floricultor, alimentos, eléctrico).</a:t>
            </a:r>
            <a:endParaRPr b="0" lang="en-US" sz="32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6477120" y="1224000"/>
            <a:ext cx="2666880" cy="2205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533520" y="441972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i sus botas están agujereadas o rotas, no las repare; solicite unas nuevas. Ninguna reparación que usted pueda realizar le dará una protección adecuada 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0880" y="13716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Inspeccione el equipo antes de colocárselo, verifique que no tenga averías, deterioros.</a:t>
            </a:r>
            <a:endParaRPr b="0" lang="en-US" sz="32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36600" y="3429000"/>
            <a:ext cx="84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alice limpieza a los elementos de protección personal después de utilizarlos.</a:t>
            </a:r>
            <a:endParaRPr b="0" lang="en-US" sz="32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2:20:45Z</dcterms:created>
  <dc:creator>mpquintero</dc:creator>
  <dc:description/>
  <dc:language>en-US</dc:language>
  <cp:lastModifiedBy>mpquintero</cp:lastModifiedBy>
  <dcterms:modified xsi:type="dcterms:W3CDTF">2009-09-10T12:21:58Z</dcterms:modified>
  <cp:revision>1</cp:revision>
  <dc:subject/>
  <dc:title>ELEMENTOS DE PROTECCIÓN PERSONAL</dc:title>
</cp:coreProperties>
</file>